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1.gif" ContentType="image/gif"/>
  <Override PartName="/ppt/media/image8.png" ContentType="image/png"/>
  <Override PartName="/ppt/media/image5.gif" ContentType="image/gif"/>
  <Override PartName="/ppt/media/image14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2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.gif" ContentType="image/gif"/>
  <Override PartName="/ppt/media/image24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A16C-6A9D-495C-B2DA-AB07021554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esentation to revise/introduce simple directions in French KS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u est….? Tournez a droite/a gauche  Allez tout dro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– allez tout droit (click to move ghost): tournez a gauche (click to reach pump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k class to form questions for the skeleton (Ou est le fantome?  Ou est la poste?  Ou est le chat noir?  Ou est l’ église?  etc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 annotate tool / IWB pen to draw a route for the skeleton following the class instru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wap and you give the instructions while a child draws the route. Can they guess what the skeleton is looking for (ie where you are taking hi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n get class to stand and play ‘Jacques a dit’ (simon says) with tournez a gauche/ a droite/ allez tout dro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e Halloween vocab. Repeat loud, soft, silly voice, scary voice, different voice for eac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n point rapidly to each and class tell you what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: allez tout droit (click and ghost moves): tournez a droite (click to make ghost move again): then allez tout droit (final 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final one could also be tournez a gauche depending on if you think your class can cope with finding their way around the map that wa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: allez tout droit (click ghost moves): tournez a gauche (click to move ghost): allez tout droit (move ghost): tournez a droite (last 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allez tout droit (click to move ghost): tournez a gauche (click): allez tout droit (click): tournez a gauche (last click to get to c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allez tout droit (click to move ghost): tournez a gauche (click) allez tout droit (click) tournez a gauche (last click to reach wit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761-7D1B-4CA6-A730-0D9822AD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A9C-9784-4553-A3BD-E00770DC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3FA-1A99-4881-80CA-4EDFC1DB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471-8820-43A2-A860-A2318255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084-4C7A-4816-A76E-630D4FE8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2D9-42DE-468D-8A69-DDF2689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F5C-C794-4F0E-9E0C-8F48A0CE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993-4AAE-4E99-AC49-73EF052A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EEE-BDF0-4F4C-92B0-3A09CEAF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8F3-77E0-4FD5-BFEC-57DA6953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598-6809-4471-8CC1-9B1CB57E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64D-DE85-4A4B-8989-23F5763A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3FC0-E441-4822-A893-39A511D1E01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image" Target="../media/image1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1.png"/><Relationship Id="rId13" Type="http://schemas.openxmlformats.org/officeDocument/2006/relationships/image" Target="../media/image23.png"/><Relationship Id="rId14" Type="http://schemas.openxmlformats.org/officeDocument/2006/relationships/image" Target="../media/image24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(O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 est…..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6000" y="4762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51800" y="4869000"/>
            <a:ext cx="1492200" cy="198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922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63640" y="5526000"/>
            <a:ext cx="1881360" cy="1332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a citrouil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508720" y="342900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33572 E">
                                      <p:cBhvr>
                                        <p:cTn id="128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33572 L -0.50382 0.33572 E">
                                      <p:cBhvr>
                                        <p:cTn id="132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0920" y="5300640"/>
            <a:ext cx="1881360" cy="133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8900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……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908000" y="148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4140360" y="907920"/>
            <a:ext cx="1385640" cy="1706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0" y="765000"/>
            <a:ext cx="1760400" cy="1808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2050920" y="3645000"/>
            <a:ext cx="939960" cy="817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4643280" y="5560920"/>
            <a:ext cx="1729080" cy="1297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179280" y="4869000"/>
            <a:ext cx="1295640" cy="1066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6156360" y="1773360"/>
            <a:ext cx="876240" cy="914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6804000" y="5013360"/>
            <a:ext cx="1368360" cy="1058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7956720" y="3429000"/>
            <a:ext cx="876240" cy="914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3492360" y="3284640"/>
            <a:ext cx="1295640" cy="1157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7740720" y="260280"/>
            <a:ext cx="887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ournez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2155680"/>
            <a:ext cx="6624720" cy="320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10300800">
            <a:off x="3419280" y="5084640"/>
            <a:ext cx="402732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ournez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4360" y="1790640"/>
            <a:ext cx="4392720" cy="436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5516640"/>
            <a:ext cx="3809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z tout dro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3205080" cy="449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16200000">
            <a:off x="792000" y="3679200"/>
            <a:ext cx="3809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67280" y="692280"/>
            <a:ext cx="1614600" cy="175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74880" y="620640"/>
            <a:ext cx="122400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433600" cy="2187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2160360" cy="1903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640" y="278136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 sorc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5080" y="602136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 citro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1080" y="602136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e chat n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3080" y="256536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e fantô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028000" y="1197000"/>
            <a:ext cx="884160" cy="13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76720" y="5805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0.03144 L 0.05503 -0.20971 E">
                                      <p:cBhvr>
                                        <p:cTn id="60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-0.20971 L 0.42517 -0.20971 E">
                                      <p:cBhvr>
                                        <p:cTn id="64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17 -0.20971 L 0.42517 -0.57688 E">
                                      <p:cBhvr>
                                        <p:cTn id="68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1125720" cy="109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19640" y="595008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9 0.02891 L 0.05539 -0.23075 E">
                                      <p:cBhvr>
                                        <p:cTn id="74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9 -0.23075 L -0.25972 -0.23075 E">
                                      <p:cBhvr>
                                        <p:cTn id="78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72 -0.23075 L -0.25972 -0.51375 E">
                                      <p:cBhvr>
                                        <p:cTn id="82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72 -0.51375 L -0.10225 -0.51375 E">
                                      <p:cBhvr>
                                        <p:cTn id="86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32532 E">
                                      <p:cBhvr>
                                        <p:cTn id="92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32532 L -0.59045 0.32532 E">
                                      <p:cBhvr>
                                        <p:cTn id="96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045 0.32532 L -0.59826 0.60832 E">
                                      <p:cBhvr>
                                        <p:cTn id="100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826 0.60832 L -0.68489 0.60832 E">
                                      <p:cBhvr>
                                        <p:cTn id="104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5526000"/>
            <a:ext cx="1881360" cy="133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a sorciè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908000" y="1484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60832 E">
                                      <p:cBhvr>
                                        <p:cTn id="110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60832 L -0.28333 0.60832 E">
                                      <p:cBhvr>
                                        <p:cTn id="114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60832 L -0.28333 0.81826 E">
                                      <p:cBhvr>
                                        <p:cTn id="118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81826 L -0.36996 0.81826 E">
                                      <p:cBhvr>
                                        <p:cTn id="122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0:44:57Z</dcterms:created>
  <dc:creator>Jo Rhys-Jones</dc:creator>
  <dc:description/>
  <dc:language>en-US</dc:language>
  <cp:lastModifiedBy>Jo Rhys-Jones</cp:lastModifiedBy>
  <dcterms:modified xsi:type="dcterms:W3CDTF">2007-10-19T16:22:30Z</dcterms:modified>
  <cp:revision>12</cp:revision>
  <dc:subject/>
  <dc:title>L’Halloween</dc:title>
</cp:coreProperties>
</file>